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ACC4C-2A7C-4943-B6E4-5F4754819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503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D37F7-B824-4C03-987D-E3FB4BDE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503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A5A8D-52AB-40ED-B2B6-31F94815D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503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E1044-6C9F-4F20-BCA6-9355B73E4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11FE-C778-4DF6-ACFA-B88D9F09B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5034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B021-5C99-4F9C-A78F-C8228600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5034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D8FA-0F2F-41F4-9EF7-6D3B3A1E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5034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F469-A957-4818-A203-E6639114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503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2FE0-A679-4D6B-ADC4-288E1445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A02A-2DE9-47C6-9660-58D5FEF2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5034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5FF2-7BA0-427B-96FD-0FF2BE9F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503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E80FF-9BD2-4B01-A79F-47C5EB74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5034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8026-2210-49DE-9868-72340195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5034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A6BE-CE68-43FA-B591-ED16E505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5034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26AD-6303-4B9E-8176-5B5E261F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5034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225D-B6B0-4B95-AF25-9C3421880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5034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3679-9F6C-49A3-9BEE-EB4EF1CF5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503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B2300-6430-4FC4-9162-2D457BF2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503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230CC-7679-408D-8749-4B8E4521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503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B6A65-FD36-4643-BEEC-E23AA592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FA5B1-0C6C-4AD0-9412-A717667D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503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AAD29-D9E7-4EE2-85E8-357BA06A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503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5505A-F975-404C-BA0E-29EBA30A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503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CD71E-0599-46F0-B93A-B5078718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6CA9-FFB4-4700-8452-0D8C2F40E693}" type="slidenum">
              <a:rPr b="0" lang="en-US" sz="1200" spc="-1" strike="noStrike">
                <a:solidFill>
                  <a:srgbClr val="4b25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d9d2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d2ca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ebc5c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503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5a503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5a503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d9d2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d2ca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ebc5c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a5034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5a503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3144-8DC1-4521-A005-C450AA94E66D}" type="slidenum">
              <a:rPr b="0" lang="en-US" sz="1200" spc="-1" strike="noStrike">
                <a:solidFill>
                  <a:srgbClr val="4b25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5a5034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5a5034"/>
                </a:solidFill>
                <a:latin typeface="Garamond"/>
              </a:rPr>
              <a:t>СТРИХНИН и его препараты</a:t>
            </a:r>
            <a:endParaRPr b="1" lang="en-US" sz="8800" spc="-1" strike="noStrike">
              <a:solidFill>
                <a:srgbClr val="5a5034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5256000" cy="60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5034"/>
                </a:solidFill>
                <a:latin typeface="Garamond"/>
              </a:rPr>
              <a:t>По воздействию на организм стрихнин относится к I классу опасности (чрезвычайно опасные вещества). Входит в список ядовитых веществ.</a:t>
            </a:r>
            <a:r>
              <a:rPr b="1" lang="en-US" sz="4400" spc="-1" strike="noStrike">
                <a:solidFill>
                  <a:srgbClr val="5a5034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5a5034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867280" y="1413000"/>
            <a:ext cx="2867040" cy="396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b2500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4b2500"/>
                </a:solidFill>
                <a:latin typeface="Garamond"/>
              </a:rPr>
              <a:t>На продолговатый мозг стрихнин  действует возбуждающе. Дыхание учащается и становится более глубоким еще задолго до наступления тетануса. Вследствие возбуждения сосудодвигательного центра кровяное давление повышается. Вследствие возбуждения центра п. vagi ритм сердца замедляется. Кровяное давление может повышаться на 18—35 </a:t>
            </a:r>
            <a:r>
              <a:rPr b="0" i="1" lang="ru-RU" sz="2400" spc="-1" strike="noStrike">
                <a:solidFill>
                  <a:srgbClr val="4b2500"/>
                </a:solidFill>
                <a:latin typeface="Garamond"/>
              </a:rPr>
              <a:t>мм </a:t>
            </a:r>
            <a:r>
              <a:rPr b="0" lang="ru-RU" sz="2400" spc="-1" strike="noStrike">
                <a:solidFill>
                  <a:srgbClr val="4b2500"/>
                </a:solidFill>
                <a:latin typeface="Garamond"/>
              </a:rPr>
              <a:t>при одновременном урежении ритма. В опытах на курарезированных животных каждое раздражение чувствительных путей ведет к значительному подъему кровяного давления и урежению пульса. 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222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b2500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4b2500"/>
                </a:solidFill>
                <a:latin typeface="Garamond"/>
              </a:rPr>
              <a:t>На некурарезированных животных этому способствует еще тетаническое сокращение мышц. 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222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b2500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4b2500"/>
                </a:solidFill>
                <a:latin typeface="Garamond"/>
              </a:rPr>
              <a:t>Действие на головной мозг у людей выражается в чувстве страха, пугливости у животных. 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В опытах Зольмана поглаживание животного (кролика) задерживало появление судорог, из чего можно заключить, что чувство страха может провоцировать, ускорять наступление тетануса.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189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По некоторым исследованиям (Baglioni, Amantea и др.) С. ведет к повышению возбудимости двигательных отделов коры головного мозга. С. уже в терапевтических дозах вызывает обострение органов чувств. Наблюдается обострение вкуса, тактильных ощущений, обоняния, слуха и зрения. Под влиянием впрыскивания С. минут через 15 острота зрения с 20/20 увеличивается до 2%5; поле зрения увеличивается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4b2500"/>
                </a:solidFill>
                <a:latin typeface="Garamond"/>
              </a:rPr>
              <a:t>        </a:t>
            </a:r>
            <a:r>
              <a:rPr b="0" lang="ru-RU" sz="2400" spc="-1" strike="noStrike">
                <a:solidFill>
                  <a:srgbClr val="4b2500"/>
                </a:solidFill>
                <a:latin typeface="Garamond"/>
              </a:rPr>
              <a:t>Распространено мнение, что улучшение зрения есть результат' действия С. на сетчатку глаза и потому впрыскивание с лечебной целью производили в висок больной стороны. Однако есть основание считать, что улучшение зрения есть результат действия С. на центральную нервную систему,.т. к  отток лимфы идет не от височной области к сетчатке, а обратно, и улучшение зрения наступает независимо от места впрыскивания. На глаз с ослабленным зрением С. производит' большее действие, чем на здоровый: это связано с обычным правилом большого воздействия яда на органы, находящиеся в условиях патобиоза.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0852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0852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b2500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4b2500"/>
                </a:solidFill>
                <a:latin typeface="Garamond"/>
              </a:rPr>
              <a:t>Обострение органов вкуса также центрального происхождения. 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0852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0852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b2500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4b2500"/>
                </a:solidFill>
                <a:latin typeface="Garamond"/>
              </a:rPr>
              <a:t>Проводимость двигательных нервов под влиянием доз С, значительно превышающих необходимые для развития судорог, повышается; под влиянием обычных доз проводимость двигательных нервов не меняется.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000" y="76464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   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На саму мышцу С. в переносимых дозах влияния не оказывает, при непосредственном действии в больших дозах наблюдается небольшое угнетение поперечнополосатой мышцы, а также угнетение окончаний двигательных нервов. Наблюдающееся улучшение работы под влиянием небольших доз С. должно объясняться центральными причинами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948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Из органов с гладкой мускулатурой под влиянием С. возможны сокращения матки, кишечника. Эти сокращения могут быть записаны также на изолированных органах (5 </a:t>
            </a:r>
            <a:r>
              <a:rPr b="0" i="1" lang="ru-RU" sz="2800" spc="-1" strike="noStrike">
                <a:solidFill>
                  <a:srgbClr val="4b2500"/>
                </a:solidFill>
                <a:latin typeface="Garamond"/>
              </a:rPr>
              <a:t>мг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С. на 200 см3 Рингеровского раствора). Сокращения сосудов наблюдаются гл. обр. вследствие рефлекторных причин и возбуждения сосудодвигательного центра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Отмечается усиление тонуса сердечной мышцы; усиление' маятникообразных движений кишечника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При развитии судорог увеличивается количество Са в крови, число молодых форм красных кровяных шариков в крови, формула крови сдвигается влево.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Основной обмен при даче доз, не вызывающих судорог, при С. изменяется мало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Температура тела может повышаться, но так как при этом обычно повышается и теплоотдача, то t чаще остается без изменений.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В опытах на зимних лягушках установлено, что С. вызывает гликозурию. 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У летних лягушек гликозурия получается, если их посадить на лед; для развития гликозурии необходимы запасы гликогена в печени. 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На теплокровных животных гликозурия получалась авторами лишь на молодых животных. 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b2500"/>
                </a:solidFill>
                <a:latin typeface="Garamond"/>
              </a:rPr>
              <a:t>Стрихнин</a:t>
            </a:r>
            <a:r>
              <a:rPr b="1" lang="ru-RU" sz="4000" spc="-1" strike="noStrike">
                <a:solidFill>
                  <a:srgbClr val="4b2500"/>
                </a:solidFill>
                <a:latin typeface="Garamond"/>
              </a:rPr>
              <a:t> в малых дозах стимулирует центры кровообращения и дыхания, усиливает рефлекторные реакции (аналептик). </a:t>
            </a:r>
            <a:r>
              <a:rPr b="1" lang="ru-RU" sz="4000" spc="-1" strike="noStrike">
                <a:solidFill>
                  <a:srgbClr val="4b2500"/>
                </a:solidFill>
                <a:latin typeface="Garamond"/>
              </a:rPr>
              <a:t>Бруцин</a:t>
            </a:r>
            <a:r>
              <a:rPr b="1" lang="ru-RU" sz="4000" spc="-1" strike="noStrike">
                <a:solidFill>
                  <a:srgbClr val="4b2500"/>
                </a:solidFill>
                <a:latin typeface="Garamond"/>
              </a:rPr>
              <a:t> менее ядовит, обладает курареподобным действием. Используется для разделения рацемических карбоновых кислот.</a:t>
            </a:r>
            <a:br>
              <a:rPr sz="4000"/>
            </a:br>
            <a:endParaRPr b="1" lang="en-US" sz="4000" spc="-1" strike="noStrike">
              <a:solidFill>
                <a:srgbClr val="5a5034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5034"/>
                </a:solidFill>
                <a:latin typeface="Garamond"/>
              </a:rPr>
              <a:t>В терапевтических дозах стрихнин оказывает стимулирующее действие на органы чувств (обостряет зрение, вкус, слух, тактильное чувство), возбуждает сосудодвигательный и дыхательный центры, тонизирует скелетную мускулатуру, а также мышцу сердца, стимулирует процессы обмена, повышает чувствительность сетчатки глаза.</a:t>
            </a:r>
            <a:endParaRPr b="1" lang="en-US" sz="3200" spc="-1" strike="noStrike">
              <a:solidFill>
                <a:srgbClr val="5a5034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916360" y="4653000"/>
            <a:ext cx="3240000" cy="1965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a5034"/>
                </a:solidFill>
                <a:latin typeface="Garamond"/>
              </a:rPr>
              <a:t>Стрихнин и другие препараты чилибухи возбуждают ЦНС и в первую очередь повышают рефлекторную возбудимость. Под влиянием стрихнина рефлекторные реакции становятся более генерализованными, при больших дозах стрихнина различные раздражители вызывают появление сильных болезненных тетанических судорог.</a:t>
            </a:r>
            <a:endParaRPr b="1" lang="en-US" sz="2800" spc="-1" strike="noStrike">
              <a:solidFill>
                <a:srgbClr val="5a5034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3357720"/>
            <a:ext cx="3313080" cy="26683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364000" y="3357720"/>
            <a:ext cx="3311640" cy="266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b2500"/>
                </a:solidFill>
                <a:latin typeface="Garamond"/>
              </a:rPr>
              <a:t>ЦЕЛЬ: 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b2500"/>
                </a:solidFill>
                <a:latin typeface="Garamond"/>
              </a:rPr>
              <a:t>Изучить действие стрихнина</a:t>
            </a:r>
            <a:r>
              <a:rPr b="0" lang="en-US" sz="4000" spc="-1" strike="noStrike">
                <a:solidFill>
                  <a:srgbClr val="4b25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5832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a5034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5a5034"/>
                </a:solidFill>
                <a:latin typeface="Garamond"/>
              </a:rPr>
              <a:t>Применяют стрихнин как тонизирующее средство при общем понижении процессов обмена, быстрой утомляемости, гипотонической болезни, ослаблении сердечной деятельности на почве интоксикаций и инфекций, при некоторых функциональных нарушениях зрительного аппарата (амблиопия, амавроз и др.); при парезах и параличах (в частности, дифтерийного происхождения у детей), при атонии желудка и т.п. Ранее им широко пользовались для лечения острых отравлений барбитуратами; теперь для этой цели в основном применяется бемегрид</a:t>
            </a:r>
            <a:r>
              <a:rPr b="1" lang="ru-RU" sz="4000" spc="-1" strike="noStrike">
                <a:solidFill>
                  <a:srgbClr val="5a5034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5a5034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5034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5a5034"/>
                </a:solidFill>
                <a:latin typeface="Garamond"/>
              </a:rPr>
              <a:t>Назначают внутрь (часто в пилюлях) и под кожу (0,1 % раствор). Обычная доза для взрослых 0,0005 - 0,001 г (0,5 - 1 мг) 2 - 3 раза в день. Детям старше 2 лет назначают по 0,0001 г (0,1 мг) - 0,0005 г (0,5 мг) на прием в зависимости от возраста; до 2 лет не назначают. </a:t>
            </a:r>
            <a:endParaRPr b="1" lang="en-US" sz="3200" spc="-1" strike="noStrike">
              <a:solidFill>
                <a:srgbClr val="5a5034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3573360"/>
            <a:ext cx="3743280" cy="2994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508720" y="3573360"/>
            <a:ext cx="3024000" cy="302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5034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4b2500"/>
                </a:solidFill>
                <a:latin typeface="Garamond"/>
              </a:rPr>
              <a:t>Противопоказания:</a:t>
            </a:r>
            <a:r>
              <a:rPr b="1" lang="en-US" sz="4000" spc="-1" strike="noStrike">
                <a:solidFill>
                  <a:srgbClr val="5a5034"/>
                </a:solidFill>
                <a:latin typeface="Garamond"/>
              </a:rPr>
              <a:t> гипертоническая болезнь, бронхиальная астма, стенокардия, атеросклероз, острый и хронический нефрит, гепатиты, склонность к судорожным реакциям, беременность, базедова болезнь.</a:t>
            </a:r>
            <a:endParaRPr b="1" lang="en-US" sz="4000" spc="-1" strike="noStrike">
              <a:solidFill>
                <a:srgbClr val="5a5034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034"/>
                </a:solidFill>
                <a:latin typeface="Garamond"/>
              </a:rPr>
              <a:t>Отравление стрихнином - одно из самых тяжелых. Его сопровождают рвота, страшные боли под ложечкой, общие судороги, слепота. При отравлении стрихнином надо немедленно вызвать доктора. До его прихода дать сильное слабительное и стакан воды, в которой размешать столовую ложку очищенного древесного угля.</a:t>
            </a:r>
            <a:br>
              <a:rPr sz="2800"/>
            </a:br>
            <a:br>
              <a:rPr sz="4000"/>
            </a:br>
            <a:endParaRPr b="1" lang="en-US" sz="2800" spc="-1" strike="noStrike">
              <a:solidFill>
                <a:srgbClr val="5a5034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2227320" cy="3456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211640" y="3573360"/>
            <a:ext cx="4032360" cy="267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a5034"/>
                </a:solidFill>
                <a:latin typeface="Garamond"/>
              </a:rPr>
              <a:t>Алкалоиды стрихнин и бруцин (диметоксильное производное стрихнина )  были выделены Пеллетье и Каванту (1818 ) из  « рвотных орешков » - семян одного ядовитого индонезийского растения. Систематические структурные исследования этих алкалоидов начались с работ Тафеля (с 1890г.) и Лейкса(с 1908г.). К 1910г. относится первая работа по  изучению строения  этих алкалоидов Перкина-младшего и Робинсона. В этой работе уже была предложена  формула стрихнина, содержащая шесть циклов. Правда, оба атома азота у Перкина и Робинсона оказались ошибочно в одном и том же, притом шестичленном,цикле.</a:t>
            </a:r>
            <a:r>
              <a:rPr b="1" lang="ru-RU" sz="2400" spc="-1" strike="noStrike">
                <a:solidFill>
                  <a:srgbClr val="5a5034"/>
                </a:solidFill>
                <a:latin typeface="Garamond"/>
              </a:rPr>
              <a:t> </a:t>
            </a:r>
            <a:endParaRPr b="1" lang="en-US" sz="2400" spc="-1" strike="noStrike">
              <a:solidFill>
                <a:srgbClr val="5a5034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a5034"/>
                </a:solidFill>
                <a:latin typeface="Garamond"/>
              </a:rPr>
              <a:t>После смерти Перкина в 1924г. исследование стрихнина продолжал Робинсон, который наконец в 1945г. пришел к правильной структурной формуле этого алкалоида.</a:t>
            </a:r>
            <a:endParaRPr b="1" lang="en-US" sz="2800" spc="-1" strike="noStrike">
              <a:solidFill>
                <a:srgbClr val="5a5034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697800" cy="4908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034"/>
                </a:solidFill>
                <a:latin typeface="Garamond"/>
              </a:rPr>
              <a:t>Главный алкалоид семян чилибухи (Strychnos nux-vomica), семейства логаниевых (Loganiaceae), произрастающей в тропических районах Азии и Африки.</a:t>
            </a:r>
            <a:r>
              <a:rPr b="1" lang="en-US" sz="2800" spc="-1" strike="noStrike">
                <a:solidFill>
                  <a:srgbClr val="5a5034"/>
                </a:solidFill>
                <a:latin typeface="Garamond"/>
              </a:rPr>
              <a:t> </a:t>
            </a:r>
            <a:endParaRPr b="1" lang="en-US" sz="2800" spc="-1" strike="noStrike">
              <a:solidFill>
                <a:srgbClr val="5a5034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76360" y="3068640"/>
            <a:ext cx="2973240" cy="3382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435640" y="3068640"/>
            <a:ext cx="2206440" cy="3382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034"/>
                </a:solidFill>
                <a:latin typeface="Garamond"/>
              </a:rPr>
              <a:t>Семя чилибухи —рвотный орех (лат. semen Strychni; Nux vomica) содержит </a:t>
            </a:r>
            <a:br>
              <a:rPr sz="3600"/>
            </a:br>
            <a:r>
              <a:rPr b="1" lang="en-US" sz="3600" spc="-1" strike="noStrike">
                <a:solidFill>
                  <a:srgbClr val="5a5034"/>
                </a:solidFill>
                <a:latin typeface="Garamond"/>
              </a:rPr>
              <a:t>стрихнина и бруцина не менее 2,5 %.</a:t>
            </a:r>
            <a:endParaRPr b="1" lang="en-US" sz="3600" spc="-1" strike="noStrike">
              <a:solidFill>
                <a:srgbClr val="5a5034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55640" y="2924280"/>
            <a:ext cx="2914560" cy="3313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284720" y="2924280"/>
            <a:ext cx="4103640" cy="3344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b2500"/>
                </a:solidFill>
                <a:latin typeface="Garamond"/>
              </a:rPr>
              <a:t>Препараты из чилибухи:</a:t>
            </a:r>
            <a:br>
              <a:rPr sz="4400"/>
            </a:br>
            <a:r>
              <a:rPr b="1" lang="ru-RU" sz="4400" spc="-1" strike="noStrike">
                <a:solidFill>
                  <a:srgbClr val="4b2500"/>
                </a:solidFill>
                <a:latin typeface="Garamond"/>
              </a:rPr>
              <a:t>1. </a:t>
            </a:r>
            <a:r>
              <a:rPr b="1" lang="ru-RU" sz="4000" spc="-1" strike="noStrike">
                <a:solidFill>
                  <a:srgbClr val="5a5034"/>
                </a:solidFill>
                <a:latin typeface="Garamond"/>
              </a:rPr>
              <a:t>Экстракт чилибухи сухой. Экстракт рвотного ореха сухой (Extractum Strychni siccum; Extractum nucis vomicae siccum). </a:t>
            </a:r>
            <a:br>
              <a:rPr sz="4000"/>
            </a:br>
            <a:r>
              <a:rPr b="1" lang="ru-RU" sz="4000" spc="-1" strike="noStrike">
                <a:solidFill>
                  <a:srgbClr val="4b2500"/>
                </a:solidFill>
                <a:latin typeface="Garamond"/>
              </a:rPr>
              <a:t>2.</a:t>
            </a:r>
            <a:r>
              <a:rPr b="1" lang="ru-RU" sz="4000" spc="-1" strike="noStrike">
                <a:solidFill>
                  <a:srgbClr val="5a5034"/>
                </a:solidFill>
                <a:latin typeface="Garamond"/>
              </a:rPr>
              <a:t> Настойка чилибухи. Настойка рвотного ореха (Tinctura Strychni; Tinctura nucis vomicae).</a:t>
            </a:r>
            <a:r>
              <a:rPr b="1" lang="ru-RU" sz="4400" spc="-1" strike="noStrike">
                <a:solidFill>
                  <a:srgbClr val="5a5034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5a5034"/>
              </a:solidFill>
              <a:latin typeface="Garamond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27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2500"/>
                </a:solidFill>
                <a:latin typeface="Garamond"/>
              </a:rPr>
              <a:t>Использовались в качестве яда для наконечников стрел. Сильные судорожные яды, поражают спинной мозг, затем ЦНС, зрение, слух и обоняние. Смерть наступает от удушья.</a:t>
            </a:r>
            <a:br>
              <a:rPr sz="3600"/>
            </a:br>
            <a:endParaRPr b="1" lang="en-US" sz="3600" spc="-1" strike="noStrike">
              <a:solidFill>
                <a:srgbClr val="5a5034"/>
              </a:solidFill>
              <a:latin typeface="Garamond"/>
            </a:endParaRPr>
          </a:p>
        </p:txBody>
      </p:sp>
      <p:graphicFrame>
        <p:nvGraphicFramePr>
          <p:cNvPr id="113" name="Object 14"/>
          <p:cNvGraphicFramePr/>
          <p:nvPr/>
        </p:nvGraphicFramePr>
        <p:xfrm>
          <a:off x="684360" y="3500280"/>
          <a:ext cx="7848360" cy="308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500280"/>
                    <a:ext cx="7848360" cy="30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5034"/>
                </a:solidFill>
                <a:latin typeface="Garamond"/>
              </a:rPr>
              <a:t>Нитрат стрихнина представляет собой бесцветные блестящие игольчатые кристаллы или белый кристаллический порошок. Имеет чрезвычайно горький вкус.</a:t>
            </a:r>
            <a:r>
              <a:rPr b="1" lang="en-US" sz="4000" spc="-1" strike="noStrike">
                <a:solidFill>
                  <a:srgbClr val="5a5034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5a5034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9640" y="3357720"/>
            <a:ext cx="3527640" cy="2809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716360" y="3284640"/>
            <a:ext cx="3743280" cy="289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04:11:17Z</dcterms:created>
  <dc:creator>Paradise</dc:creator>
  <dc:description/>
  <dc:language>en-US</dc:language>
  <cp:lastModifiedBy>1</cp:lastModifiedBy>
  <dcterms:modified xsi:type="dcterms:W3CDTF">2012-02-02T04:18:47Z</dcterms:modified>
  <cp:revision>5</cp:revision>
  <dc:subject/>
  <dc:title>СТРИХНИН</dc:title>
</cp:coreProperties>
</file>